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582-9716-4C48-A35B-DCC1EA13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6D4-26D1-43C7-8278-3A3EBB98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874-6818-49F5-A5E6-93432FC5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F45-B95F-4821-B768-2FC6A61C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2823-EC86-4B75-A75D-7C242CCF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863D-F5F1-4EEB-A907-091C4D53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7FF0-C9F7-4030-83E4-9F3C81D8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F129-7D3C-41EA-929C-26DD6A01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CFB9-CDB2-4628-B5F1-E508D3B9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F14E-A375-4C19-8E91-B3E67A11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8127-CE12-4A6A-8D7F-FFD83067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8C7-1AC8-478B-94C0-2DB8D943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6A74-940E-43D6-98CE-4CE1D01D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7470-0288-40F4-8EEC-EAA05AEF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47C9-8F78-4149-A2D7-99F99B08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9EA3-77D2-4933-9648-3716A3AB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9B8F-BF29-454B-9671-B368D6DB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790-5E5B-4839-AB71-88081B1E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A38-5FBC-4425-9F2D-1FAAF01B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A44-C4EE-4EE2-A4E7-8B279E33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8C6-37F8-4DE3-B32B-9F1EF90D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88A-D077-488F-99C4-6CA97192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125-9270-4969-9ED1-019D0EA1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2E0-D9DE-44D7-9D6B-6C1F7C33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9640"/>
                <a:ext cx="1832760" cy="1670400"/>
                <a:chOff x="853560" y="4049640"/>
                <a:chExt cx="1832760" cy="16704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9080" y="3931200"/>
                  <a:ext cx="477360" cy="1252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4200" y="4978800"/>
                  <a:ext cx="110520" cy="5137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040" y="5564880"/>
                  <a:ext cx="200880" cy="903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AE2D-3718-4EFB-BFBE-4B2C1BDC2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19800" y="0"/>
            <a:ext cx="9049680" cy="6858000"/>
            <a:chOff x="-19800" y="0"/>
            <a:chExt cx="904968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85600" y="61920"/>
              <a:ext cx="3644280" cy="6145920"/>
              <a:chOff x="5385600" y="61920"/>
              <a:chExt cx="3644280" cy="6145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6840" y="347760"/>
                <a:ext cx="2120040" cy="23580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0960" y="1970640"/>
                <a:ext cx="9079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18400" y="2589840"/>
                <a:ext cx="44028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6800" y="676800"/>
                <a:ext cx="38988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3400" y="265500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4040" y="1242720"/>
                <a:ext cx="19080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15880" y="2945160"/>
                <a:ext cx="52452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36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7120" y="2000160"/>
              <a:ext cx="200268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404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7400" y="4532040"/>
              <a:ext cx="56304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70080" y="4728960"/>
              <a:ext cx="13824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2880" y="5195880"/>
              <a:ext cx="17622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8720" y="1032840"/>
              <a:ext cx="1017000" cy="1263240"/>
              <a:chOff x="4158720" y="103284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4520" y="1070640"/>
                <a:ext cx="285840" cy="379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9120" y="1603800"/>
                <a:ext cx="488880" cy="315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9120" y="1962360"/>
                <a:ext cx="511200" cy="160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57760"/>
              <a:ext cx="894600" cy="825480"/>
              <a:chOff x="5645520" y="257760"/>
              <a:chExt cx="894600" cy="8254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480" y="751680"/>
                <a:ext cx="179280" cy="362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720" y="432000"/>
                <a:ext cx="306360" cy="301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1040" y="357120"/>
                <a:ext cx="318240" cy="153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920" y="5242320"/>
              <a:ext cx="1060200" cy="830520"/>
              <a:chOff x="970920" y="5242320"/>
              <a:chExt cx="1060200" cy="8305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3960" y="5506920"/>
                <a:ext cx="25164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840" y="5717880"/>
                <a:ext cx="43056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67240"/>
                <a:ext cx="45000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920" y="408960"/>
              <a:ext cx="1693080" cy="1146960"/>
              <a:chOff x="376920" y="408960"/>
              <a:chExt cx="1693080" cy="114696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960" y="1027080"/>
                <a:ext cx="355680" cy="53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5640" y="552240"/>
                <a:ext cx="608760" cy="44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720" y="1066680"/>
                <a:ext cx="636120" cy="22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35080" y="3711960"/>
              <a:ext cx="1158120" cy="1608480"/>
              <a:chOff x="7435080" y="3711960"/>
              <a:chExt cx="115812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89800" y="4756680"/>
                <a:ext cx="356040" cy="53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41600" y="4455720"/>
                <a:ext cx="60948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33800" y="3781080"/>
                <a:ext cx="63720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5720" y="3240"/>
              <a:ext cx="137088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2240" y="160920"/>
              <a:ext cx="1083240" cy="94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5560" y="1361160"/>
              <a:ext cx="524520" cy="4406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7360" y="1281960"/>
              <a:ext cx="19584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9880" y="0"/>
              <a:ext cx="19728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6360" y="1964880"/>
              <a:ext cx="62496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1AA8-523C-408F-8319-B7294265C96A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743200"/>
            <a:ext cx="7734240" cy="130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DAPTIVE RELIABLE MULTIPATH PROVISIONING IN SURVIVABLE WDM MESH NETWORK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PROPOSED WORK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A proposal to “adaptive reliable multipath provisioning in survivable WDM mesh networks”. Has to satisf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efficient utilization of bandwidt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reduction in cos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Increases connection availability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erformance of network load vs. bandwidth blocking ratio will be verified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OOL USED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at lab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REFERENC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. Song and B. Mukherjee, “A comprehensive study on backup bandwidth reprovisioning after network-state updates in survivable telecom mesh networks,” 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/ACM Trans.,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ol. 16, no. 6, pp. 1366–1377, Dec. 2008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. Song, J. Zhang, and B. Mukherjee, “Dynamic provisioning with availability guarantee for differentiated services in survivable mesh networks,” 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 J. Sel. Areas Common., vol. 25, </a:t>
            </a:r>
            <a:r>
              <a:rPr b="0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. 3, pp. 35–43, Apr.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. Rai, O. Deshpande, C. Ou, C. Martel, and B. Mukherjee, “Reliable multipath provisioning for high-capacity backbone mesh networks,” 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/ACM Trans. Netw., vol. 15, no. 4, pp.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03–812, Aug.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228600" y="30492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. Zhou, M. Held, and U. Sennhauser, “Connection availability analysis of shared backup path-protected mesh networks,” Light wave Technol., vol. 25, no. 5, pp. 1111–1119, May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J.Zhang, K. Zhu, H. Zang, N. S. Matloff, and B. Mukherjee,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“Availability-aware provisioning strategies for differentiated protection services in wavelength-convertible WDM mesh networks,” </a:t>
            </a:r>
            <a:r>
              <a:rPr b="0" lang="nl-NL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/ACM Trans. Netw., vol. 15, no. 5, pp. 1177–1190,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ct.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. Das, C. Martel, B. Mukherjee, and S. Rai, “A better approach to reliable multi-path provisioning,” in IEEE Global </a:t>
            </a:r>
            <a:r>
              <a:rPr b="0" lang="fr-F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élécommunications Conf., 2007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AGENDA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52280" y="12193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terature surve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blem statem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posed wor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ol use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ferenc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793908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Wavelength division multiplex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ultiple optical carrier signals of unique wavelengths on a single fiber cabl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of WD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igh bandwidt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xtremely low error rat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ow signal attenua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ore secur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5181480" cy="4191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451400" y="3321000"/>
                <a:ext cx="2412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304920" y="38088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10181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10181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-3049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Typical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onnection request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requires two paramet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rotection from network failure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-Efficient utilization of bandwidt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Survivabilit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bility to remain alive or continue to exist the network</a:t>
            </a:r>
            <a:r>
              <a:rPr b="0" lang="en-US" sz="2400" spc="-1" strike="noStrike">
                <a:solidFill>
                  <a:srgbClr val="10181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42480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6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3619440" cy="1676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4038480" cy="1600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0" y="2438280"/>
            <a:ext cx="4343400" cy="3519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4"/>
          <a:stretch/>
        </p:blipFill>
        <p:spPr>
          <a:xfrm>
            <a:off x="4267080" y="1676520"/>
            <a:ext cx="4876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rtual concatenation(VCAT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reaks the bandwidth into individual payload  at the source end and  concatenated at destination nod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nables  reliable multipath  techniqu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46960" indent="-24696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nk Capacity Adjustment scheme (LCAS 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protocol for dynamic adding/removing of VCAT member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ides the capability of temporarily removing member links that  have experienced a failur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229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1066680"/>
            <a:ext cx="868680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LITERATURE SURVEY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38088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ynamic provision with availability guarantee  for differentiated services in mesh network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ackup reprovisioning to remedy the effect of multiple link failures in WDM mesh network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urvivable virtual concatenation for data over SONET/SDH in optical transport network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nnection availability analysis of shared backup path-protected mesh network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ptimal path selection for minimizing the differential delay in Ethernet-over-SONE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PROBLEM FORMULAT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To provide an efficient connection availability in multipath provisioning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8:52:07Z</dcterms:created>
  <dc:creator>Electronics Projects</dc:creator>
  <dc:description>Electronics Projects</dc:description>
  <dc:language>en-US</dc:language>
  <cp:lastModifiedBy>Brigade</cp:lastModifiedBy>
  <dcterms:modified xsi:type="dcterms:W3CDTF">2011-08-26T11:08:43Z</dcterms:modified>
  <cp:revision>0</cp:revision>
  <dc:subject>Electronics Projects</dc:subject>
  <dc:title>ECE IEEE Projects</dc:title>
</cp:coreProperties>
</file>